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3DF-B240-4582-ADFA-C8DC5AF9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6BE-6874-4298-9B56-1ABD77ED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24A-18D6-4FDF-A429-4FDCEA69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39E-485B-4A62-9B8B-0D5F089F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A27-821E-40CA-AEF7-BC1052B7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745-BD23-4389-8054-F9215ACD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A0A-F570-4B7E-AC3A-C1A8688B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8A9-78FC-4839-8DA0-E435C08F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4D1-6AEE-4D74-B2F1-7D4FF6DD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59F-689F-4723-8A5B-BD8319B8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896-CE0C-4A8E-9869-D05BEED6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085-5F55-4B95-8C43-44665B55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289F-4034-4CA2-B415-E4A0420AB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r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21000"/>
            <a:ext cx="2735280" cy="2233440"/>
          </a:xfrm>
          <a:prstGeom prst="cloudCallout">
            <a:avLst>
              <a:gd name="adj1" fmla="val -31370"/>
              <a:gd name="adj2" fmla="val 87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565360"/>
            <a:ext cx="2303640" cy="1511280"/>
          </a:xfrm>
          <a:prstGeom prst="cloudCallout">
            <a:avLst>
              <a:gd name="adj1" fmla="val -75569"/>
              <a:gd name="adj2" fmla="val 124157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4720" y="2637000"/>
            <a:ext cx="1872000" cy="1296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516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man mit Online- Banking mach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d über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lastslide"/>
          </p:cNvPr>
          <p:cNvSpPr/>
          <p:nvPr/>
        </p:nvSpPr>
        <p:spPr>
          <a:xfrm>
            <a:off x="2987640" y="414972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geld abh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lastslide"/>
          </p:cNvPr>
          <p:cNvSpPr/>
          <p:nvPr/>
        </p:nvSpPr>
        <p:spPr>
          <a:xfrm>
            <a:off x="6300720" y="4076640"/>
            <a:ext cx="2843280" cy="2233800"/>
          </a:xfrm>
          <a:prstGeom prst="cloudCallout">
            <a:avLst>
              <a:gd name="adj1" fmla="val -25546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scheine in Münzen wechs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70028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zu verwendet man E-Mai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0" y="4076640"/>
            <a:ext cx="3276720" cy="2522520"/>
          </a:xfrm>
          <a:prstGeom prst="cloudCallout">
            <a:avLst>
              <a:gd name="adj1" fmla="val 14921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 Geld zu überw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 Nachrichten zu vers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34037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k ab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s Satzzeichen gehört ans Ende des folgenden Sat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Spiele kann man im Internet nic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lastslide"/>
          </p:cNvPr>
          <p:cNvSpPr/>
          <p:nvPr/>
        </p:nvSpPr>
        <p:spPr>
          <a:xfrm>
            <a:off x="395280" y="4437000"/>
            <a:ext cx="2735280" cy="2233800"/>
          </a:xfrm>
          <a:prstGeom prst="cloudCallout">
            <a:avLst>
              <a:gd name="adj1" fmla="val -5134"/>
              <a:gd name="adj2" fmla="val -92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zsp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3780000" y="4797360"/>
            <a:ext cx="2592360" cy="1511280"/>
          </a:xfrm>
          <a:prstGeom prst="cloudCallout">
            <a:avLst>
              <a:gd name="adj1" fmla="val -39833"/>
              <a:gd name="adj2" fmla="val -130884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ölker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6804000" y="5013360"/>
            <a:ext cx="1871640" cy="1297080"/>
          </a:xfrm>
          <a:prstGeom prst="cloudCallout">
            <a:avLst>
              <a:gd name="adj1" fmla="val -39736"/>
              <a:gd name="adj2" fmla="val -15110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189000"/>
            <a:ext cx="87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och einmal von vor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3141720"/>
            <a:ext cx="81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äsentation beend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3276720" y="549360"/>
            <a:ext cx="2158920" cy="1800000"/>
          </a:xfrm>
          <a:prstGeom prst="smileyFace">
            <a:avLst>
              <a:gd name="adj" fmla="val -4652"/>
            </a:avLst>
          </a:prstGeom>
          <a:solidFill>
            <a:srgbClr val="e74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492280"/>
            <a:ext cx="820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war leider nicht ri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uch es noch einm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1908000" y="4437000"/>
            <a:ext cx="5185080" cy="1152720"/>
          </a:xfrm>
          <a:prstGeom prst="leftArrow">
            <a:avLst>
              <a:gd name="adj1" fmla="val 50000"/>
              <a:gd name="adj2" fmla="val 112453"/>
            </a:avLst>
          </a:prstGeom>
          <a:solidFill>
            <a:srgbClr val="3ac6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önnen Viren anrich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in die Luft sp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zum Absturz b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34037"/>
              <a:gd name="adj2" fmla="val -667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 Computer anzü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19700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Informationen geben wir sehr of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n uns preis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z. B Fac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0" y="3357720"/>
            <a:ext cx="3132000" cy="2665080"/>
          </a:xfrm>
          <a:prstGeom prst="cloudCallout">
            <a:avLst>
              <a:gd name="adj1" fmla="val 22782"/>
              <a:gd name="adj2" fmla="val -71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– 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hn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3132000" y="4292640"/>
            <a:ext cx="3240360" cy="1800360"/>
          </a:xfrm>
          <a:prstGeom prst="cloudCallout">
            <a:avLst>
              <a:gd name="adj1" fmla="val -26333"/>
              <a:gd name="adj2" fmla="val -141800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uhgröß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6300720" y="3357720"/>
            <a:ext cx="2843280" cy="1944360"/>
          </a:xfrm>
          <a:prstGeom prst="cloudCallout">
            <a:avLst>
              <a:gd name="adj1" fmla="val -44638"/>
              <a:gd name="adj2" fmla="val -7971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H-Größ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he Gefahren gib es im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0" y="3213000"/>
            <a:ext cx="3348000" cy="1800360"/>
          </a:xfrm>
          <a:prstGeom prst="cloudCallout">
            <a:avLst>
              <a:gd name="adj1" fmla="val 50282"/>
              <a:gd name="adj2" fmla="val -78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nupfen bekom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2627280" y="4869000"/>
            <a:ext cx="3311640" cy="1584360"/>
          </a:xfrm>
          <a:prstGeom prst="cloudCallout">
            <a:avLst>
              <a:gd name="adj1" fmla="val 1629"/>
              <a:gd name="adj2" fmla="val -17494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ern b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6046920" y="3357720"/>
            <a:ext cx="2701800" cy="1439640"/>
          </a:xfrm>
          <a:prstGeom prst="cloudCallout">
            <a:avLst>
              <a:gd name="adj1" fmla="val -35254"/>
              <a:gd name="adj2" fmla="val -823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19700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darf Facebook nicht ma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0" y="3860640"/>
            <a:ext cx="2986200" cy="2089440"/>
          </a:xfrm>
          <a:prstGeom prst="cloudCallout">
            <a:avLst>
              <a:gd name="adj1" fmla="val 32935"/>
              <a:gd name="adj2" fmla="val -98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 ver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lastslide"/>
          </p:cNvPr>
          <p:cNvSpPr/>
          <p:nvPr/>
        </p:nvSpPr>
        <p:spPr>
          <a:xfrm>
            <a:off x="2700360" y="4724280"/>
            <a:ext cx="2952720" cy="1729080"/>
          </a:xfrm>
          <a:prstGeom prst="cloudCallout">
            <a:avLst>
              <a:gd name="adj1" fmla="val -3546"/>
              <a:gd name="adj2" fmla="val -160101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der verk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5724360" y="4076640"/>
            <a:ext cx="3276720" cy="2232000"/>
          </a:xfrm>
          <a:prstGeom prst="cloudCallout">
            <a:avLst>
              <a:gd name="adj1" fmla="val -9203"/>
              <a:gd name="adj2" fmla="val -9708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Privateinstel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än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26828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 werden Computerviren oft verschick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1513080"/>
          </a:xfrm>
          <a:prstGeom prst="cloudCallout">
            <a:avLst>
              <a:gd name="adj1" fmla="val 32935"/>
              <a:gd name="adj2" fmla="val -12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E -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2843280" y="5013360"/>
            <a:ext cx="3024000" cy="1512720"/>
          </a:xfrm>
          <a:prstGeom prst="cloudCallout">
            <a:avLst>
              <a:gd name="adj1" fmla="val 1231"/>
              <a:gd name="adj2" fmla="val -180324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die Tast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6227640" y="3860640"/>
            <a:ext cx="2556000" cy="2233800"/>
          </a:xfrm>
          <a:prstGeom prst="cloudCallout">
            <a:avLst>
              <a:gd name="adj1" fmla="val -26398"/>
              <a:gd name="adj2" fmla="val -945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 die Briefta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Schlimmes beim Chat passi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0" y="4076640"/>
            <a:ext cx="3276720" cy="2665440"/>
          </a:xfrm>
          <a:prstGeom prst="cloudCallout">
            <a:avLst>
              <a:gd name="adj1" fmla="val 24564"/>
              <a:gd name="adj2" fmla="val -97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ute geben an, jemand anderer zu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lastslide"/>
          </p:cNvPr>
          <p:cNvSpPr/>
          <p:nvPr/>
        </p:nvSpPr>
        <p:spPr>
          <a:xfrm>
            <a:off x="3348000" y="4292640"/>
            <a:ext cx="3311640" cy="2305080"/>
          </a:xfrm>
          <a:prstGeom prst="cloudCallout">
            <a:avLst>
              <a:gd name="adj1" fmla="val -29004"/>
              <a:gd name="adj2" fmla="val -8112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 Brieftaube ersche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lastslide"/>
          </p:cNvPr>
          <p:cNvSpPr/>
          <p:nvPr/>
        </p:nvSpPr>
        <p:spPr>
          <a:xfrm>
            <a:off x="6119640" y="3068640"/>
            <a:ext cx="3024360" cy="1800360"/>
          </a:xfrm>
          <a:prstGeom prst="cloudCallout">
            <a:avLst>
              <a:gd name="adj1" fmla="val -53777"/>
              <a:gd name="adj2" fmla="val -715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Bildschirm zerb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125360"/>
            <a:ext cx="8280360" cy="1727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kann passieren, wenn man beim Download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n Programmen nicht aufpas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2995"/>
              <a:gd name="adj2" fmla="val -99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Maus wird zerstö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276720" y="4149720"/>
            <a:ext cx="3311280" cy="2305080"/>
          </a:xfrm>
          <a:prstGeom prst="cloudCallout">
            <a:avLst>
              <a:gd name="adj1" fmla="val -17305"/>
              <a:gd name="adj2" fmla="val -98069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muss für die Programme beza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lastslide"/>
          </p:cNvPr>
          <p:cNvSpPr/>
          <p:nvPr/>
        </p:nvSpPr>
        <p:spPr>
          <a:xfrm>
            <a:off x="6588000" y="4076640"/>
            <a:ext cx="2556000" cy="2233800"/>
          </a:xfrm>
          <a:prstGeom prst="cloudCallout">
            <a:avLst>
              <a:gd name="adj1" fmla="val -44222"/>
              <a:gd name="adj2" fmla="val -10529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Computer beginnt zu ta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 Antwort ist rich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773360"/>
            <a:ext cx="8280360" cy="1726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bedeutet das Wort „Phisching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0" y="4076640"/>
            <a:ext cx="2986200" cy="2522520"/>
          </a:xfrm>
          <a:prstGeom prst="cloudCallout">
            <a:avLst>
              <a:gd name="adj1" fmla="val 21240"/>
              <a:gd name="adj2" fmla="val -73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 Computer wird und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2987640" y="4149720"/>
            <a:ext cx="3311640" cy="2305080"/>
          </a:xfrm>
          <a:prstGeom prst="cloudCallout">
            <a:avLst>
              <a:gd name="adj1" fmla="val -18120"/>
              <a:gd name="adj2" fmla="val -74930"/>
            </a:avLst>
          </a:prstGeom>
          <a:solidFill>
            <a:srgbClr val="fb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 verwendet die Maus als Köder zum Fi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6156360" y="4365720"/>
            <a:ext cx="2987640" cy="2233440"/>
          </a:xfrm>
          <a:prstGeom prst="cloudCallout">
            <a:avLst>
              <a:gd name="adj1" fmla="val -21893"/>
              <a:gd name="adj2" fmla="val -7970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unerlaubte Abfragen vo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0:16:59Z</dcterms:created>
  <dc:creator>WS003</dc:creator>
  <dc:description/>
  <dc:language>en-US</dc:language>
  <cp:lastModifiedBy>WS006</cp:lastModifiedBy>
  <dcterms:modified xsi:type="dcterms:W3CDTF">2011-03-09T11:20:05Z</dcterms:modified>
  <cp:revision>39</cp:revision>
  <dc:subject/>
  <dc:title>Satzzeichen</dc:title>
</cp:coreProperties>
</file>